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910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3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03912-E56E-400A-9E97-356B86CC2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03C-AC7B-454B-94BB-3806C62A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44C-CB31-4089-8336-D17AF6CA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984-0396-478B-B965-DAA3D82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FF3-B718-4C68-B4EF-A2356F23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907-352E-467E-A166-F1971755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B6FD-94B9-4F45-851D-520CE74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3716-A7FE-41A4-8184-35E80EE2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9E4C-8773-41C6-BBCA-8851285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2122-8A5B-446B-B538-256308F6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622620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0758-151D-4841-9A17-31E12AF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B857-9EE9-498E-921D-065F9F4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B66-BCA4-4972-9C48-FBDF268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735-C865-498D-B58A-BD4426F5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AFBE-9ACF-4A61-856F-94A80751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793E-F71C-4DD3-B62E-2832CF6A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556D-9AB0-4F5B-95FD-FF28B049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127-6B4D-4654-88CC-D58314DB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798-DCE0-4F0E-9DA3-36F4AB8D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7DD-B84B-43EA-9A74-1A618D0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DAC-34CD-4B3C-9C11-B1ADE8D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620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599-E4C5-40F6-A780-3C12033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24B-5488-481E-83F9-F6BABBDB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476-2D65-463F-8353-4878547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CF5-14A6-478A-B222-8AD42F8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4945F-AE96-4961-926A-6FF93E57D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37480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537480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537480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0C222-B55E-4286-837E-8E823D7A5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6207120"/>
            <a:ext cx="90694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  <a:ea typeface="Arial Unicode MS"/>
              </a:rPr>
              <a:t>The Stamp and Townshend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86280" y="1143000"/>
            <a:ext cx="377172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620676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o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801800"/>
            <a:ext cx="4424400" cy="2116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9800" y="792000"/>
            <a:ext cx="4424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mp and Townshend Acts affected most of the colon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at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5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Stamp Acts, colonists had to pay for an official stamp on paper products. This stamp would be on legal documents, licenses, newspapers, and playing 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600" y="792000"/>
            <a:ext cx="442584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shend acts had colonists pay duties on imported glass, lead, paint, and t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en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584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mp Acts occurred between 1765 and 17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1600" y="792000"/>
            <a:ext cx="442584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shend Acts occurred between 1767 and 176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62701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er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791640"/>
            <a:ext cx="442584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mp Act happened in New York, and Boston,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600" y="791640"/>
            <a:ext cx="442584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shend Act happened in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The Stamp Act - Why/Out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 Grenville heard complaints about the Sugar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ed colonists if they had a better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mp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March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most colo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to pay for an official st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61760" indent="-42444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documents, licenses, newspapers, pamphlets, and playing 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1760" indent="-42444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fined or sent to jail for not p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62701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The Townshend Acts- Why/Out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9920" y="68544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nshend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d duties on imported glass, lead, paint, paper, and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for military costs and the salaries of colonial govern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s of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orms allowed tax collectors to search for smuggled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officials used these to enforce the Townshend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cotted British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7:25:32Z</dcterms:created>
  <dc:creator/>
  <dc:description/>
  <dc:language>en-US</dc:language>
  <cp:lastModifiedBy/>
  <cp:revision>1</cp:revision>
  <dc:subject/>
  <dc:title/>
</cp:coreProperties>
</file>